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46.png" ContentType="image/png"/>
  <Override PartName="/ppt/media/image31.wmf" ContentType="image/x-wmf"/>
  <Override PartName="/ppt/media/image32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43.png" ContentType="image/png"/>
  <Override PartName="/ppt/media/image54.wmf" ContentType="image/x-wmf"/>
  <Override PartName="/ppt/media/image44.png" ContentType="image/png"/>
  <Override PartName="/ppt/media/image55.wmf" ContentType="image/x-wmf"/>
  <Override PartName="/ppt/media/image45.png" ContentType="image/png"/>
  <Override PartName="/ppt/media/image30.wmf" ContentType="image/x-wmf"/>
  <Override PartName="/ppt/media/image56.wmf" ContentType="image/x-wmf"/>
  <Override PartName="/ppt/media/image39.png" ContentType="image/png"/>
  <Override PartName="/ppt/media/image38.png" ContentType="image/png"/>
  <Override PartName="/ppt/media/image34.wmf" ContentType="image/x-wmf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AC3B-8C69-40AE-9F2D-4F217CF8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6C7F-DE72-4123-B935-76ADBE8E5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4C41-7BBB-47F9-B30F-B667A28D5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8470-DF1A-49B5-A17B-CDC658EB6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0688-0962-4E2A-A1B4-4C33F59E0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CB0C-C64F-4FC7-92EC-13EEFE62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2834-3709-4573-B479-41B52D31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8187-1412-432E-BA00-4006DE9C4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4F5-3776-424E-AA2A-9EF031C7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0B22-9802-4A79-9089-5CBCBE14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B1A-7677-489D-9794-EF09F7A7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02C-B211-48D5-A4FC-FF77E473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0D4-8858-4614-90D3-7791A8F4E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60A-2FAC-43EA-84CB-DC271F80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7569-8E2B-4574-B154-CFE8322C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C18-71A2-444B-8BD5-B2BAAA59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23AF-02AA-4673-8D53-BF1E2C96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FAD8-ACF8-4596-BE2D-8C096E732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6246-8680-4823-83DB-2103C54F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3525-7EB1-45F7-9F84-4D7CC91D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18EE-5C8B-48B9-A595-CA54D4F0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6762-5AD9-4B88-9531-19ABCB96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7CFF-6617-434D-9910-CF5D2F46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335F-F98F-4617-A2E4-849BDD48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C2D-86C5-42EE-BAB4-A48E3ED2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B05F-8FD1-474E-9466-019B1DFE3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B4B6-F4BF-4828-B551-C9EB6AC73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6584-68C5-4295-A29B-2B6C03BB0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C600-99B4-463B-99CA-96FF80E6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C20-4186-4D74-9599-13A01247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C40-79EB-4ADF-8DEB-7233B8CF5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8873-E2C6-4C61-8822-AEECA0A0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A682-A427-4183-8919-43C222FE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CE28-D4D1-4719-973D-A40E32816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9919-9C47-4861-B1E2-20CF55B05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75E3-3BEF-4737-9E35-94DA2A121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FCF6-BA71-4F46-9FD4-BE50AED9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51EA-07E1-4E82-A67F-F24444221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EABA-A748-4277-8534-99BEF031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4AF2-71DE-44C7-AAF1-A4662461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6C39-DC01-4BFF-8175-86339D15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1E3A-C2D3-41F6-98E5-63ACBF05C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63A2-A986-492B-91A7-9AF9375C4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3936-DB17-4DD2-9418-3E94DB12B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2B9B-CBF8-4281-8605-7E12CD08E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410A-DE47-4FEA-AE67-2B87CF26D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D71-BA9D-4402-86F1-A8D02A011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 - </a:t>
            </a:r>
            <a:fld id="{CF7AEC24-88AC-4AE7-8F91-074E42F2770D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 - </a:t>
            </a:r>
            <a:fld id="{2B6E439D-EF12-40E1-BE31-9DD4B04C4355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hapter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More on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icture 8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85800" y="233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85800" y="4495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8580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85800" y="5638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066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0"/>
          <p:cNvGraphicFramePr/>
          <p:nvPr/>
        </p:nvGraphicFramePr>
        <p:xfrm>
          <a:off x="1219320" y="3505320"/>
          <a:ext cx="54612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505320"/>
                    <a:ext cx="546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Oval 11"/>
          <p:cNvSpPr/>
          <p:nvPr/>
        </p:nvSpPr>
        <p:spPr>
          <a:xfrm>
            <a:off x="635040" y="35434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3579840" y="291960"/>
          <a:ext cx="5234040" cy="200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9840" y="291960"/>
                    <a:ext cx="5234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523880" y="2728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, find (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523880" y="2728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, find (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447920" y="57592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523880" y="272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600200" y="990720"/>
          <a:ext cx="243828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90720"/>
                    <a:ext cx="2438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0"/>
          <p:cNvSpPr/>
          <p:nvPr/>
        </p:nvSpPr>
        <p:spPr>
          <a:xfrm>
            <a:off x="3965760" y="952560"/>
            <a:ext cx="46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the domain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/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11"/>
          <p:cNvGraphicFramePr/>
          <p:nvPr/>
        </p:nvGraphicFramePr>
        <p:xfrm>
          <a:off x="2209680" y="2108160"/>
          <a:ext cx="1181160" cy="55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2108160"/>
                    <a:ext cx="11811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2235240" y="3276720"/>
          <a:ext cx="115560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35240" y="3276720"/>
                    <a:ext cx="1155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3"/>
          <p:cNvGraphicFramePr/>
          <p:nvPr/>
        </p:nvGraphicFramePr>
        <p:xfrm>
          <a:off x="2184480" y="4546440"/>
          <a:ext cx="4305240" cy="55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84480" y="4546440"/>
                    <a:ext cx="43052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5"/>
          <p:cNvGraphicFramePr/>
          <p:nvPr/>
        </p:nvGraphicFramePr>
        <p:xfrm>
          <a:off x="2228760" y="5715000"/>
          <a:ext cx="4165560" cy="55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5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8760" y="5715000"/>
                    <a:ext cx="4165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523880" y="272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8"/>
          <p:cNvGraphicFramePr/>
          <p:nvPr/>
        </p:nvGraphicFramePr>
        <p:xfrm>
          <a:off x="1600200" y="990720"/>
          <a:ext cx="243828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90720"/>
                    <a:ext cx="2438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9"/>
          <p:cNvSpPr/>
          <p:nvPr/>
        </p:nvSpPr>
        <p:spPr>
          <a:xfrm>
            <a:off x="3965760" y="952560"/>
            <a:ext cx="46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the domain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/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1447920" y="57592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5"/>
              <p:cNvSpPr txBox="1"/>
              <p:nvPr/>
            </p:nvSpPr>
            <p:spPr>
              <a:xfrm>
                <a:off x="2057400" y="2209680"/>
                <a:ext cx="1057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6"/>
              <p:cNvSpPr txBox="1"/>
              <p:nvPr/>
            </p:nvSpPr>
            <p:spPr>
              <a:xfrm>
                <a:off x="2068560" y="33526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7"/>
              <p:cNvSpPr txBox="1"/>
              <p:nvPr/>
            </p:nvSpPr>
            <p:spPr>
              <a:xfrm>
                <a:off x="2057400" y="45720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8"/>
              <p:cNvSpPr txBox="1"/>
              <p:nvPr/>
            </p:nvSpPr>
            <p:spPr>
              <a:xfrm>
                <a:off x="2286000" y="5715000"/>
                <a:ext cx="468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,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–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–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3 –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 and simplify the difference quotient for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–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447920" y="2025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1447920" y="4464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–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44792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–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3 –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523880" y="19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 and simplify the difference quotient for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–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397160" y="331488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523880" y="196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2"/>
          <p:cNvGraphicFramePr/>
          <p:nvPr/>
        </p:nvGraphicFramePr>
        <p:xfrm>
          <a:off x="1625760" y="965160"/>
          <a:ext cx="26413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5760" y="965160"/>
                    <a:ext cx="264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447920" y="1949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44792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44792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523880" y="196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4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1371600" y="4495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0"/>
          <p:cNvGraphicFramePr/>
          <p:nvPr/>
        </p:nvGraphicFramePr>
        <p:xfrm>
          <a:off x="1625760" y="965160"/>
          <a:ext cx="26413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5760" y="965160"/>
                    <a:ext cx="264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447920" y="2558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1447920" y="4724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447920" y="3625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9"/>
          <p:cNvGraphicFramePr/>
          <p:nvPr/>
        </p:nvGraphicFramePr>
        <p:xfrm>
          <a:off x="4343400" y="1143000"/>
          <a:ext cx="195588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1143000"/>
                    <a:ext cx="1955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0"/>
          <p:cNvGraphicFramePr/>
          <p:nvPr/>
        </p:nvGraphicFramePr>
        <p:xfrm>
          <a:off x="2451240" y="152280"/>
          <a:ext cx="227304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1240" y="152280"/>
                    <a:ext cx="2273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11"/>
          <p:cNvSpPr/>
          <p:nvPr/>
        </p:nvSpPr>
        <p:spPr>
          <a:xfrm>
            <a:off x="4952880" y="272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1523880" y="111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omai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2362320" y="25909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9"/>
              <p:cNvSpPr txBox="1"/>
              <p:nvPr/>
            </p:nvSpPr>
            <p:spPr>
              <a:xfrm>
                <a:off x="2286000" y="3581280"/>
                <a:ext cx="4876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2362320" y="4800600"/>
                <a:ext cx="2971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1"/>
              <p:cNvSpPr txBox="1"/>
              <p:nvPr/>
            </p:nvSpPr>
            <p:spPr>
              <a:xfrm>
                <a:off x="2286000" y="5791320"/>
                <a:ext cx="3352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25905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, Decreasing, and Piecewise 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y and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awtri_4c UPDATE_color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447920" y="2558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447920" y="4724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447920" y="3625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3880" y="27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9"/>
          <p:cNvGraphicFramePr/>
          <p:nvPr/>
        </p:nvGraphicFramePr>
        <p:xfrm>
          <a:off x="4343400" y="1143000"/>
          <a:ext cx="195588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1143000"/>
                    <a:ext cx="1955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0"/>
          <p:cNvGraphicFramePr/>
          <p:nvPr/>
        </p:nvGraphicFramePr>
        <p:xfrm>
          <a:off x="2451240" y="152280"/>
          <a:ext cx="2273040" cy="9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1240" y="152280"/>
                    <a:ext cx="2273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1"/>
          <p:cNvSpPr/>
          <p:nvPr/>
        </p:nvSpPr>
        <p:spPr>
          <a:xfrm>
            <a:off x="4952880" y="272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(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1523880" y="111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omai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7"/>
          <p:cNvSpPr/>
          <p:nvPr/>
        </p:nvSpPr>
        <p:spPr>
          <a:xfrm>
            <a:off x="1397160" y="368316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8"/>
              <p:cNvSpPr txBox="1"/>
              <p:nvPr/>
            </p:nvSpPr>
            <p:spPr>
              <a:xfrm>
                <a:off x="2362320" y="25909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9"/>
              <p:cNvSpPr txBox="1"/>
              <p:nvPr/>
            </p:nvSpPr>
            <p:spPr>
              <a:xfrm>
                <a:off x="2286000" y="3581280"/>
                <a:ext cx="4876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0"/>
              <p:cNvSpPr txBox="1"/>
              <p:nvPr/>
            </p:nvSpPr>
            <p:spPr>
              <a:xfrm>
                <a:off x="2362320" y="4800600"/>
                <a:ext cx="2971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2286000" y="5791320"/>
                <a:ext cx="3352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20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1447920" y="445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447920" y="323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447920" y="56768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1523880" y="266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     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2"/>
          <p:cNvGraphicFramePr/>
          <p:nvPr/>
        </p:nvGraphicFramePr>
        <p:xfrm>
          <a:off x="6654960" y="304920"/>
          <a:ext cx="55692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4960" y="304920"/>
                    <a:ext cx="5569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3"/>
          <p:cNvGraphicFramePr/>
          <p:nvPr/>
        </p:nvGraphicFramePr>
        <p:xfrm>
          <a:off x="1981080" y="2057400"/>
          <a:ext cx="301644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057400"/>
                    <a:ext cx="3016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4"/>
          <p:cNvGraphicFramePr/>
          <p:nvPr/>
        </p:nvGraphicFramePr>
        <p:xfrm>
          <a:off x="1981080" y="3220920"/>
          <a:ext cx="3016440" cy="68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220920"/>
                    <a:ext cx="301644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5"/>
          <p:cNvGraphicFramePr/>
          <p:nvPr/>
        </p:nvGraphicFramePr>
        <p:xfrm>
          <a:off x="1981080" y="4551480"/>
          <a:ext cx="24415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551480"/>
                    <a:ext cx="24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16"/>
          <p:cNvGraphicFramePr/>
          <p:nvPr/>
        </p:nvGraphicFramePr>
        <p:xfrm>
          <a:off x="1981080" y="5676840"/>
          <a:ext cx="244152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676840"/>
                    <a:ext cx="24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47920" y="20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4"/>
          <p:cNvSpPr/>
          <p:nvPr/>
        </p:nvSpPr>
        <p:spPr>
          <a:xfrm>
            <a:off x="1447920" y="445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447920" y="323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447920" y="56768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523880" y="266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4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     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8"/>
          <p:cNvGraphicFramePr/>
          <p:nvPr/>
        </p:nvGraphicFramePr>
        <p:xfrm>
          <a:off x="6654960" y="304920"/>
          <a:ext cx="55692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4960" y="304920"/>
                    <a:ext cx="5569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9"/>
          <p:cNvGraphicFramePr/>
          <p:nvPr/>
        </p:nvGraphicFramePr>
        <p:xfrm>
          <a:off x="1981080" y="2057400"/>
          <a:ext cx="301644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2057400"/>
                    <a:ext cx="3016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0"/>
          <p:cNvGraphicFramePr/>
          <p:nvPr/>
        </p:nvGraphicFramePr>
        <p:xfrm>
          <a:off x="1981080" y="3220920"/>
          <a:ext cx="3016440" cy="68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5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220920"/>
                    <a:ext cx="301644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1"/>
          <p:cNvGraphicFramePr/>
          <p:nvPr/>
        </p:nvGraphicFramePr>
        <p:xfrm>
          <a:off x="1981080" y="4551480"/>
          <a:ext cx="24415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7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551480"/>
                    <a:ext cx="24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2"/>
          <p:cNvGraphicFramePr/>
          <p:nvPr/>
        </p:nvGraphicFramePr>
        <p:xfrm>
          <a:off x="1981080" y="5676840"/>
          <a:ext cx="244152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9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5676840"/>
                    <a:ext cx="2441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Oval 13"/>
          <p:cNvSpPr/>
          <p:nvPr/>
        </p:nvSpPr>
        <p:spPr>
          <a:xfrm>
            <a:off x="1371600" y="331488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447920" y="1905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1447920" y="4343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447920" y="3124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447920" y="5562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523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is symmetric with respect to the orig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2"/>
          <p:cNvGraphicFramePr/>
          <p:nvPr/>
        </p:nvGraphicFramePr>
        <p:xfrm>
          <a:off x="2251080" y="1960560"/>
          <a:ext cx="190332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1080" y="1960560"/>
                    <a:ext cx="19033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3"/>
          <p:cNvGraphicFramePr/>
          <p:nvPr/>
        </p:nvGraphicFramePr>
        <p:xfrm>
          <a:off x="2251080" y="3141720"/>
          <a:ext cx="107640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1080" y="3141720"/>
                    <a:ext cx="1076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4"/>
          <p:cNvGraphicFramePr/>
          <p:nvPr/>
        </p:nvGraphicFramePr>
        <p:xfrm>
          <a:off x="2251080" y="4437000"/>
          <a:ext cx="190188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51080" y="4437000"/>
                    <a:ext cx="1901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5"/>
          <p:cNvGraphicFramePr/>
          <p:nvPr/>
        </p:nvGraphicFramePr>
        <p:xfrm>
          <a:off x="2251080" y="5580000"/>
          <a:ext cx="1652760" cy="6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5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51080" y="5580000"/>
                    <a:ext cx="16527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1447920" y="1905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4"/>
          <p:cNvSpPr/>
          <p:nvPr/>
        </p:nvSpPr>
        <p:spPr>
          <a:xfrm>
            <a:off x="1447920" y="4343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447920" y="3124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447920" y="5562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523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is symmetric with respect to the orig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8"/>
          <p:cNvGraphicFramePr/>
          <p:nvPr/>
        </p:nvGraphicFramePr>
        <p:xfrm>
          <a:off x="2251080" y="1960560"/>
          <a:ext cx="190332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1080" y="1960560"/>
                    <a:ext cx="19033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9"/>
          <p:cNvGraphicFramePr/>
          <p:nvPr/>
        </p:nvGraphicFramePr>
        <p:xfrm>
          <a:off x="2251080" y="3141720"/>
          <a:ext cx="107640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1080" y="3141720"/>
                    <a:ext cx="1076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0"/>
          <p:cNvGraphicFramePr/>
          <p:nvPr/>
        </p:nvGraphicFramePr>
        <p:xfrm>
          <a:off x="2251080" y="4437000"/>
          <a:ext cx="190188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51080" y="4437000"/>
                    <a:ext cx="1901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1"/>
          <p:cNvGraphicFramePr/>
          <p:nvPr/>
        </p:nvGraphicFramePr>
        <p:xfrm>
          <a:off x="2251080" y="5580000"/>
          <a:ext cx="1652760" cy="6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51080" y="5580000"/>
                    <a:ext cx="16527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Oval 12"/>
          <p:cNvSpPr/>
          <p:nvPr/>
        </p:nvSpPr>
        <p:spPr>
          <a:xfrm>
            <a:off x="1422360" y="56386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447920" y="20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6"/>
          <p:cNvSpPr/>
          <p:nvPr/>
        </p:nvSpPr>
        <p:spPr>
          <a:xfrm>
            <a:off x="1447920" y="445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1447920" y="323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1447920" y="56768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1523880" y="1904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functions is ev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Object 11"/>
          <p:cNvGraphicFramePr/>
          <p:nvPr/>
        </p:nvGraphicFramePr>
        <p:xfrm>
          <a:off x="2144880" y="2075040"/>
          <a:ext cx="179532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4880" y="2075040"/>
                    <a:ext cx="17953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2"/>
          <p:cNvGraphicFramePr/>
          <p:nvPr/>
        </p:nvGraphicFramePr>
        <p:xfrm>
          <a:off x="2144880" y="3255840"/>
          <a:ext cx="129060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4880" y="3255840"/>
                    <a:ext cx="1290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3"/>
          <p:cNvGraphicFramePr/>
          <p:nvPr/>
        </p:nvGraphicFramePr>
        <p:xfrm>
          <a:off x="2144880" y="4605480"/>
          <a:ext cx="17222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4880" y="4605480"/>
                    <a:ext cx="17222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4"/>
          <p:cNvGraphicFramePr/>
          <p:nvPr/>
        </p:nvGraphicFramePr>
        <p:xfrm>
          <a:off x="2144880" y="5676840"/>
          <a:ext cx="12571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4880" y="5676840"/>
                    <a:ext cx="1257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1447920" y="20192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1447920" y="4457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447920" y="3238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447920" y="56768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523880" y="1904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functions is ev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8"/>
          <p:cNvGraphicFramePr/>
          <p:nvPr/>
        </p:nvGraphicFramePr>
        <p:xfrm>
          <a:off x="2144880" y="2075040"/>
          <a:ext cx="179532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4880" y="2075040"/>
                    <a:ext cx="17953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9"/>
          <p:cNvGraphicFramePr/>
          <p:nvPr/>
        </p:nvGraphicFramePr>
        <p:xfrm>
          <a:off x="2144880" y="3255840"/>
          <a:ext cx="129060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4880" y="3255840"/>
                    <a:ext cx="1290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10"/>
          <p:cNvGraphicFramePr/>
          <p:nvPr/>
        </p:nvGraphicFramePr>
        <p:xfrm>
          <a:off x="2144880" y="4605480"/>
          <a:ext cx="17222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4880" y="4605480"/>
                    <a:ext cx="17222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11"/>
          <p:cNvGraphicFramePr/>
          <p:nvPr/>
        </p:nvGraphicFramePr>
        <p:xfrm>
          <a:off x="2144880" y="5676840"/>
          <a:ext cx="12571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4880" y="5676840"/>
                    <a:ext cx="1257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Oval 12"/>
          <p:cNvSpPr/>
          <p:nvPr/>
        </p:nvSpPr>
        <p:spPr>
          <a:xfrm>
            <a:off x="1371600" y="2133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447920" y="2095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1447920" y="45338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1447920" y="3314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1447920" y="57531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1523880" y="19044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n equation for a function that has the shape of              but is shifted left 3 units and down 5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1"/>
          <p:cNvGraphicFramePr/>
          <p:nvPr/>
        </p:nvGraphicFramePr>
        <p:xfrm>
          <a:off x="2079720" y="2133720"/>
          <a:ext cx="28717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9720" y="2133720"/>
                    <a:ext cx="2871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2"/>
          <p:cNvGraphicFramePr/>
          <p:nvPr/>
        </p:nvGraphicFramePr>
        <p:xfrm>
          <a:off x="2079720" y="3314880"/>
          <a:ext cx="2868480" cy="64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9720" y="3314880"/>
                    <a:ext cx="28684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3"/>
          <p:cNvGraphicFramePr/>
          <p:nvPr/>
        </p:nvGraphicFramePr>
        <p:xfrm>
          <a:off x="2079720" y="4627440"/>
          <a:ext cx="2870280" cy="64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9720" y="4627440"/>
                    <a:ext cx="2870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14"/>
          <p:cNvGraphicFramePr/>
          <p:nvPr/>
        </p:nvGraphicFramePr>
        <p:xfrm>
          <a:off x="2079720" y="5753160"/>
          <a:ext cx="287316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7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9720" y="5753160"/>
                    <a:ext cx="2873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16"/>
          <p:cNvGraphicFramePr/>
          <p:nvPr/>
        </p:nvGraphicFramePr>
        <p:xfrm>
          <a:off x="3019320" y="622440"/>
          <a:ext cx="136368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9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19320" y="622440"/>
                    <a:ext cx="1363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1447920" y="2095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1447920" y="45338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447920" y="3314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447920" y="57531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1523880" y="19044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n equation for a function that has the shape of              but is shifted left 3 units and down 5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8"/>
          <p:cNvGraphicFramePr/>
          <p:nvPr/>
        </p:nvGraphicFramePr>
        <p:xfrm>
          <a:off x="2079720" y="2133720"/>
          <a:ext cx="28717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9720" y="2133720"/>
                    <a:ext cx="2871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9"/>
          <p:cNvGraphicFramePr/>
          <p:nvPr/>
        </p:nvGraphicFramePr>
        <p:xfrm>
          <a:off x="2079720" y="3314880"/>
          <a:ext cx="2868480" cy="64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9720" y="3314880"/>
                    <a:ext cx="28684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10"/>
          <p:cNvGraphicFramePr/>
          <p:nvPr/>
        </p:nvGraphicFramePr>
        <p:xfrm>
          <a:off x="2079720" y="4627440"/>
          <a:ext cx="2870280" cy="64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2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9720" y="4627440"/>
                    <a:ext cx="2870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11"/>
          <p:cNvGraphicFramePr/>
          <p:nvPr/>
        </p:nvGraphicFramePr>
        <p:xfrm>
          <a:off x="2079720" y="5753160"/>
          <a:ext cx="287316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4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9720" y="5753160"/>
                    <a:ext cx="2873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12"/>
          <p:cNvGraphicFramePr/>
          <p:nvPr/>
        </p:nvGraphicFramePr>
        <p:xfrm>
          <a:off x="3019320" y="622440"/>
          <a:ext cx="136368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19320" y="622440"/>
                    <a:ext cx="1363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Oval 13"/>
          <p:cNvSpPr/>
          <p:nvPr/>
        </p:nvSpPr>
        <p:spPr>
          <a:xfrm>
            <a:off x="1371600" y="4648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6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371600" y="2412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 6) is a point on 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at point do you know is on the graph of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Object 11"/>
          <p:cNvGraphicFramePr/>
          <p:nvPr/>
        </p:nvGraphicFramePr>
        <p:xfrm>
          <a:off x="2057400" y="2193840"/>
          <a:ext cx="1149480" cy="5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193840"/>
                    <a:ext cx="11494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12"/>
          <p:cNvGraphicFramePr/>
          <p:nvPr/>
        </p:nvGraphicFramePr>
        <p:xfrm>
          <a:off x="2057400" y="3375000"/>
          <a:ext cx="111132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75000"/>
                    <a:ext cx="1111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13"/>
          <p:cNvGraphicFramePr/>
          <p:nvPr/>
        </p:nvGraphicFramePr>
        <p:xfrm>
          <a:off x="2057400" y="4687920"/>
          <a:ext cx="9320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0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4687920"/>
                    <a:ext cx="932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14"/>
          <p:cNvGraphicFramePr/>
          <p:nvPr/>
        </p:nvGraphicFramePr>
        <p:xfrm>
          <a:off x="2057400" y="5813280"/>
          <a:ext cx="933480" cy="5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2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5813280"/>
                    <a:ext cx="9334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(0,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(1, 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523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interval on which the function is increa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6172200" y="8380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1447920" y="2101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1447920" y="4540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1371600" y="2412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 6) is a point on 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at point do you know is on the graph of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8"/>
          <p:cNvGraphicFramePr/>
          <p:nvPr/>
        </p:nvGraphicFramePr>
        <p:xfrm>
          <a:off x="2057400" y="2193840"/>
          <a:ext cx="1149480" cy="5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193840"/>
                    <a:ext cx="11494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9"/>
          <p:cNvGraphicFramePr/>
          <p:nvPr/>
        </p:nvGraphicFramePr>
        <p:xfrm>
          <a:off x="2057400" y="3375000"/>
          <a:ext cx="111132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375000"/>
                    <a:ext cx="1111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10"/>
          <p:cNvGraphicFramePr/>
          <p:nvPr/>
        </p:nvGraphicFramePr>
        <p:xfrm>
          <a:off x="2057400" y="4687920"/>
          <a:ext cx="93204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5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4687920"/>
                    <a:ext cx="932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11"/>
          <p:cNvGraphicFramePr/>
          <p:nvPr/>
        </p:nvGraphicFramePr>
        <p:xfrm>
          <a:off x="2057400" y="5813280"/>
          <a:ext cx="933480" cy="5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7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5813280"/>
                    <a:ext cx="93348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Oval 12"/>
          <p:cNvSpPr/>
          <p:nvPr/>
        </p:nvSpPr>
        <p:spPr>
          <a:xfrm>
            <a:off x="1371600" y="2254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45720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3808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4724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47242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371600" y="763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given. Which graph below represents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4" descr="Picture 9"/>
          <p:cNvPicPr/>
          <p:nvPr/>
        </p:nvPicPr>
        <p:blipFill>
          <a:blip r:embed="rId2"/>
          <a:stretch/>
        </p:blipFill>
        <p:spPr>
          <a:xfrm>
            <a:off x="5791320" y="3049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Picture 10"/>
          <p:cNvPicPr/>
          <p:nvPr/>
        </p:nvPicPr>
        <p:blipFill>
          <a:blip r:embed="rId3"/>
          <a:stretch/>
        </p:blipFill>
        <p:spPr>
          <a:xfrm>
            <a:off x="1219320" y="2514600"/>
            <a:ext cx="2717640" cy="18032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6" descr="Picture 11"/>
          <p:cNvPicPr/>
          <p:nvPr/>
        </p:nvPicPr>
        <p:blipFill>
          <a:blip r:embed="rId4"/>
          <a:stretch/>
        </p:blipFill>
        <p:spPr>
          <a:xfrm>
            <a:off x="5791320" y="2514600"/>
            <a:ext cx="2755800" cy="1841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7" descr="Picture 12"/>
          <p:cNvPicPr/>
          <p:nvPr/>
        </p:nvPicPr>
        <p:blipFill>
          <a:blip r:embed="rId5"/>
          <a:stretch/>
        </p:blipFill>
        <p:spPr>
          <a:xfrm>
            <a:off x="1219320" y="4648320"/>
            <a:ext cx="2806560" cy="18669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8" descr="Picture 13"/>
          <p:cNvPicPr/>
          <p:nvPr/>
        </p:nvPicPr>
        <p:blipFill>
          <a:blip r:embed="rId6"/>
          <a:stretch/>
        </p:blipFill>
        <p:spPr>
          <a:xfrm>
            <a:off x="5664240" y="4648320"/>
            <a:ext cx="2946240" cy="1765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45720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3808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4724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7242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1371600" y="7632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given. Which graph below represents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" descr="Picture 9"/>
          <p:cNvPicPr/>
          <p:nvPr/>
        </p:nvPicPr>
        <p:blipFill>
          <a:blip r:embed="rId2"/>
          <a:stretch/>
        </p:blipFill>
        <p:spPr>
          <a:xfrm>
            <a:off x="5791320" y="3049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Picture 10"/>
          <p:cNvPicPr/>
          <p:nvPr/>
        </p:nvPicPr>
        <p:blipFill>
          <a:blip r:embed="rId3"/>
          <a:stretch/>
        </p:blipFill>
        <p:spPr>
          <a:xfrm>
            <a:off x="1219320" y="2514600"/>
            <a:ext cx="2717640" cy="1803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Picture 11"/>
          <p:cNvPicPr/>
          <p:nvPr/>
        </p:nvPicPr>
        <p:blipFill>
          <a:blip r:embed="rId4"/>
          <a:stretch/>
        </p:blipFill>
        <p:spPr>
          <a:xfrm>
            <a:off x="5791320" y="2514600"/>
            <a:ext cx="2755800" cy="1841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Picture 12"/>
          <p:cNvPicPr/>
          <p:nvPr/>
        </p:nvPicPr>
        <p:blipFill>
          <a:blip r:embed="rId5"/>
          <a:stretch/>
        </p:blipFill>
        <p:spPr>
          <a:xfrm>
            <a:off x="1219320" y="4648320"/>
            <a:ext cx="2806560" cy="1866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cture 13"/>
          <p:cNvPicPr/>
          <p:nvPr/>
        </p:nvPicPr>
        <p:blipFill>
          <a:blip r:embed="rId6"/>
          <a:stretch/>
        </p:blipFill>
        <p:spPr>
          <a:xfrm>
            <a:off x="5664240" y="4648320"/>
            <a:ext cx="2946240" cy="1765080"/>
          </a:xfrm>
          <a:prstGeom prst="rect">
            <a:avLst/>
          </a:prstGeom>
          <a:ln w="0">
            <a:noFill/>
          </a:ln>
        </p:spPr>
      </p:pic>
      <p:sp>
        <p:nvSpPr>
          <p:cNvPr id="493" name="Oval 13"/>
          <p:cNvSpPr/>
          <p:nvPr/>
        </p:nvSpPr>
        <p:spPr>
          <a:xfrm>
            <a:off x="304920" y="45720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45720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4"/>
          <p:cNvSpPr/>
          <p:nvPr/>
        </p:nvSpPr>
        <p:spPr>
          <a:xfrm>
            <a:off x="3808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4724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47242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1219320" y="7632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given. Which graph below represents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4" descr="Picture 14"/>
          <p:cNvPicPr/>
          <p:nvPr/>
        </p:nvPicPr>
        <p:blipFill>
          <a:blip r:embed="rId2"/>
          <a:stretch/>
        </p:blipFill>
        <p:spPr>
          <a:xfrm>
            <a:off x="5486400" y="380880"/>
            <a:ext cx="3581280" cy="1498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5" descr="Picture 15"/>
          <p:cNvPicPr/>
          <p:nvPr/>
        </p:nvPicPr>
        <p:blipFill>
          <a:blip r:embed="rId3"/>
          <a:stretch/>
        </p:blipFill>
        <p:spPr>
          <a:xfrm>
            <a:off x="1015920" y="2286000"/>
            <a:ext cx="3479760" cy="2057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6" descr="Picture 16"/>
          <p:cNvPicPr/>
          <p:nvPr/>
        </p:nvPicPr>
        <p:blipFill>
          <a:blip r:embed="rId4"/>
          <a:stretch/>
        </p:blipFill>
        <p:spPr>
          <a:xfrm>
            <a:off x="5448240" y="2286000"/>
            <a:ext cx="3314880" cy="2070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7" descr="Picture 17"/>
          <p:cNvPicPr/>
          <p:nvPr/>
        </p:nvPicPr>
        <p:blipFill>
          <a:blip r:embed="rId5"/>
          <a:stretch/>
        </p:blipFill>
        <p:spPr>
          <a:xfrm>
            <a:off x="990720" y="4572000"/>
            <a:ext cx="3340080" cy="2057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8" descr="Picture 18"/>
          <p:cNvPicPr/>
          <p:nvPr/>
        </p:nvPicPr>
        <p:blipFill>
          <a:blip r:embed="rId6"/>
          <a:stretch/>
        </p:blipFill>
        <p:spPr>
          <a:xfrm>
            <a:off x="5460840" y="4495680"/>
            <a:ext cx="3403800" cy="2108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45720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4"/>
          <p:cNvSpPr/>
          <p:nvPr/>
        </p:nvSpPr>
        <p:spPr>
          <a:xfrm>
            <a:off x="3808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724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724280" y="44578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1219320" y="7632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given. Which graph below represents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Picture 14"/>
          <p:cNvPicPr/>
          <p:nvPr/>
        </p:nvPicPr>
        <p:blipFill>
          <a:blip r:embed="rId2"/>
          <a:stretch/>
        </p:blipFill>
        <p:spPr>
          <a:xfrm>
            <a:off x="5486400" y="380880"/>
            <a:ext cx="3581280" cy="1498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Picture 15"/>
          <p:cNvPicPr/>
          <p:nvPr/>
        </p:nvPicPr>
        <p:blipFill>
          <a:blip r:embed="rId3"/>
          <a:stretch/>
        </p:blipFill>
        <p:spPr>
          <a:xfrm>
            <a:off x="1015920" y="2286000"/>
            <a:ext cx="3479760" cy="2057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Picture 16"/>
          <p:cNvPicPr/>
          <p:nvPr/>
        </p:nvPicPr>
        <p:blipFill>
          <a:blip r:embed="rId4"/>
          <a:stretch/>
        </p:blipFill>
        <p:spPr>
          <a:xfrm>
            <a:off x="5448240" y="2286000"/>
            <a:ext cx="3314880" cy="2070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Picture 17"/>
          <p:cNvPicPr/>
          <p:nvPr/>
        </p:nvPicPr>
        <p:blipFill>
          <a:blip r:embed="rId5"/>
          <a:stretch/>
        </p:blipFill>
        <p:spPr>
          <a:xfrm>
            <a:off x="990720" y="4572000"/>
            <a:ext cx="3340080" cy="2057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Picture 18"/>
          <p:cNvPicPr/>
          <p:nvPr/>
        </p:nvPicPr>
        <p:blipFill>
          <a:blip r:embed="rId6"/>
          <a:stretch/>
        </p:blipFill>
        <p:spPr>
          <a:xfrm>
            <a:off x="5460840" y="4495680"/>
            <a:ext cx="3403800" cy="2108160"/>
          </a:xfrm>
          <a:prstGeom prst="rect">
            <a:avLst/>
          </a:prstGeom>
          <a:ln w="0">
            <a:noFill/>
          </a:ln>
        </p:spPr>
      </p:pic>
      <p:sp>
        <p:nvSpPr>
          <p:cNvPr id="518" name="Oval 13"/>
          <p:cNvSpPr/>
          <p:nvPr/>
        </p:nvSpPr>
        <p:spPr>
          <a:xfrm>
            <a:off x="4686480" y="454644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1447920" y="2095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6"/>
          <p:cNvSpPr/>
          <p:nvPr/>
        </p:nvSpPr>
        <p:spPr>
          <a:xfrm>
            <a:off x="1447920" y="45338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1447920" y="3314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1447920" y="57531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1523880" y="235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symmetric with respect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11"/>
          <p:cNvGraphicFramePr/>
          <p:nvPr/>
        </p:nvGraphicFramePr>
        <p:xfrm>
          <a:off x="1959120" y="2152800"/>
          <a:ext cx="215568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9120" y="2152800"/>
                    <a:ext cx="215568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12"/>
          <p:cNvGraphicFramePr/>
          <p:nvPr/>
        </p:nvGraphicFramePr>
        <p:xfrm>
          <a:off x="1959120" y="3406680"/>
          <a:ext cx="14698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9120" y="3406680"/>
                    <a:ext cx="1469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13"/>
          <p:cNvGraphicFramePr/>
          <p:nvPr/>
        </p:nvGraphicFramePr>
        <p:xfrm>
          <a:off x="1959120" y="4645080"/>
          <a:ext cx="1792080" cy="61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59120" y="4645080"/>
                    <a:ext cx="1792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14"/>
          <p:cNvGraphicFramePr/>
          <p:nvPr/>
        </p:nvGraphicFramePr>
        <p:xfrm>
          <a:off x="1959120" y="5753160"/>
          <a:ext cx="17953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3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9120" y="5753160"/>
                    <a:ext cx="1795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447920" y="20955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1447920" y="45338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1447920" y="3314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1447920" y="57531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1523880" y="235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symmetric with respect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Object 8"/>
          <p:cNvGraphicFramePr/>
          <p:nvPr/>
        </p:nvGraphicFramePr>
        <p:xfrm>
          <a:off x="1959120" y="2152800"/>
          <a:ext cx="2155680" cy="61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9120" y="2152800"/>
                    <a:ext cx="215568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9"/>
          <p:cNvGraphicFramePr/>
          <p:nvPr/>
        </p:nvGraphicFramePr>
        <p:xfrm>
          <a:off x="1959120" y="3406680"/>
          <a:ext cx="146988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4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9120" y="3406680"/>
                    <a:ext cx="1469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10"/>
          <p:cNvGraphicFramePr/>
          <p:nvPr/>
        </p:nvGraphicFramePr>
        <p:xfrm>
          <a:off x="1959120" y="4645080"/>
          <a:ext cx="1792080" cy="61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6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59120" y="4645080"/>
                    <a:ext cx="1792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Object 11"/>
          <p:cNvGraphicFramePr/>
          <p:nvPr/>
        </p:nvGraphicFramePr>
        <p:xfrm>
          <a:off x="1959120" y="5753160"/>
          <a:ext cx="17953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8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59120" y="5753160"/>
                    <a:ext cx="1795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Oval 12"/>
          <p:cNvSpPr/>
          <p:nvPr/>
        </p:nvSpPr>
        <p:spPr>
          <a:xfrm>
            <a:off x="1371600" y="22478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47920" y="1928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447920" y="4367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447920" y="31478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447920" y="5586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1523880" y="10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2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0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11"/>
          <p:cNvGraphicFramePr/>
          <p:nvPr/>
        </p:nvGraphicFramePr>
        <p:xfrm>
          <a:off x="2057400" y="5357880"/>
          <a:ext cx="5745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57880"/>
                    <a:ext cx="5745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"/>
          <p:cNvSpPr/>
          <p:nvPr/>
        </p:nvSpPr>
        <p:spPr>
          <a:xfrm>
            <a:off x="1447920" y="1928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4"/>
          <p:cNvSpPr/>
          <p:nvPr/>
        </p:nvSpPr>
        <p:spPr>
          <a:xfrm>
            <a:off x="1447920" y="4367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447920" y="31478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447920" y="5586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523880" y="10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2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0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Object 8"/>
          <p:cNvGraphicFramePr/>
          <p:nvPr/>
        </p:nvGraphicFramePr>
        <p:xfrm>
          <a:off x="2057400" y="5357880"/>
          <a:ext cx="5745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57880"/>
                    <a:ext cx="5745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Oval 9"/>
          <p:cNvSpPr/>
          <p:nvPr/>
        </p:nvSpPr>
        <p:spPr>
          <a:xfrm>
            <a:off x="140976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447920" y="2781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33.6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6"/>
          <p:cNvSpPr/>
          <p:nvPr/>
        </p:nvSpPr>
        <p:spPr>
          <a:xfrm>
            <a:off x="1447920" y="4768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32.0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1447920" y="3772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56.8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2.3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1523880" y="12060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olume of a 6-in. tall cone varies directly as the square of the radius. The volume is 14.2 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the radius is 1.5 in. Find the volume when the radius is 3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(0,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(1, 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5238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interval on which the function is increa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6172200" y="8380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115" name="Oval 10"/>
          <p:cNvSpPr/>
          <p:nvPr/>
        </p:nvSpPr>
        <p:spPr>
          <a:xfrm>
            <a:off x="1371600" y="2330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1447920" y="2781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33.6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1447920" y="4768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32.0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3772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56.8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447920" y="5759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2.3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523880" y="12060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olume of a 6-in. tall cone varies directly as the square of the radius. The volume is 14.2 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the radius is 1.5 in. Find the volume when the radius is 3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1371600" y="384804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447920" y="2514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6"/>
          <p:cNvSpPr/>
          <p:nvPr/>
        </p:nvSpPr>
        <p:spPr>
          <a:xfrm>
            <a:off x="1447920" y="4708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447920" y="3581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447920" y="5732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23880" y="169920"/>
            <a:ext cx="6934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an equation of variation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aries jointly as the square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the square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inversely a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50 w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2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3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Object 11"/>
          <p:cNvGraphicFramePr/>
          <p:nvPr/>
        </p:nvGraphicFramePr>
        <p:xfrm>
          <a:off x="2057400" y="5504040"/>
          <a:ext cx="1727280" cy="89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504040"/>
                    <a:ext cx="17272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13"/>
          <p:cNvGraphicFramePr/>
          <p:nvPr/>
        </p:nvGraphicFramePr>
        <p:xfrm>
          <a:off x="2057400" y="4556160"/>
          <a:ext cx="1577880" cy="89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4556160"/>
                    <a:ext cx="15778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14"/>
          <p:cNvGraphicFramePr/>
          <p:nvPr/>
        </p:nvGraphicFramePr>
        <p:xfrm>
          <a:off x="2057400" y="3519360"/>
          <a:ext cx="140004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6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519360"/>
                    <a:ext cx="140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15"/>
          <p:cNvGraphicFramePr/>
          <p:nvPr/>
        </p:nvGraphicFramePr>
        <p:xfrm>
          <a:off x="2057400" y="2438280"/>
          <a:ext cx="1428840" cy="89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8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438280"/>
                    <a:ext cx="1428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447920" y="2514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4"/>
          <p:cNvSpPr/>
          <p:nvPr/>
        </p:nvSpPr>
        <p:spPr>
          <a:xfrm>
            <a:off x="1447920" y="4708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447920" y="3581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1447920" y="5732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523880" y="169920"/>
            <a:ext cx="6934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an equation of variation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aries jointly as the square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the square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inversely a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50 w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2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3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Object 8"/>
          <p:cNvGraphicFramePr/>
          <p:nvPr/>
        </p:nvGraphicFramePr>
        <p:xfrm>
          <a:off x="2057400" y="5504040"/>
          <a:ext cx="1727280" cy="89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504040"/>
                    <a:ext cx="17272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9"/>
          <p:cNvGraphicFramePr/>
          <p:nvPr/>
        </p:nvGraphicFramePr>
        <p:xfrm>
          <a:off x="2057400" y="4556160"/>
          <a:ext cx="1577880" cy="89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4556160"/>
                    <a:ext cx="15778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10"/>
          <p:cNvGraphicFramePr/>
          <p:nvPr/>
        </p:nvGraphicFramePr>
        <p:xfrm>
          <a:off x="2057400" y="3519360"/>
          <a:ext cx="140004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1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519360"/>
                    <a:ext cx="140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11"/>
          <p:cNvGraphicFramePr/>
          <p:nvPr/>
        </p:nvGraphicFramePr>
        <p:xfrm>
          <a:off x="2057400" y="2438280"/>
          <a:ext cx="1428840" cy="89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438280"/>
                    <a:ext cx="1428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Oval 12"/>
          <p:cNvSpPr/>
          <p:nvPr/>
        </p:nvSpPr>
        <p:spPr>
          <a:xfrm>
            <a:off x="1409760" y="58086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523880" y="120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.2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0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"/>
          <p:cNvSpPr/>
          <p:nvPr/>
        </p:nvSpPr>
        <p:spPr>
          <a:xfrm>
            <a:off x="1447920" y="2178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1447920" y="4616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447920" y="3397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447920" y="583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523880" y="120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inverse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.2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0,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8"/>
          <p:cNvSpPr/>
          <p:nvPr/>
        </p:nvSpPr>
        <p:spPr>
          <a:xfrm>
            <a:off x="1409760" y="59119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0.25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6"/>
          <p:cNvSpPr/>
          <p:nvPr/>
        </p:nvSpPr>
        <p:spPr>
          <a:xfrm>
            <a:off x="1447920" y="5029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.16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1447920" y="4159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.25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08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1523880" y="1969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electrical conductor varies inversely as the resi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onductor.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0.2 amperes when the resistance is 200 ohms. Find the current when the resistance is 250 o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1447920" y="3321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0.25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4"/>
          <p:cNvSpPr/>
          <p:nvPr/>
        </p:nvSpPr>
        <p:spPr>
          <a:xfrm>
            <a:off x="1447920" y="5029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.16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1447920" y="4159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1.25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447920" y="5911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08 amp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1523880" y="1969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electrical conductor varies inversely as the resi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onductor.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0.2 amperes when the resistance is 200 ohms. Find the current when the resistance is 250 o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1371600" y="51055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2787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rel max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; rel min 4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–32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2120" y="4768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rel max 32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; rel min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62120" y="3778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rel max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; rel min –32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62120" y="5759280"/>
            <a:ext cx="80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There are no relative extre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523880" y="13824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graphing calculator to find any relative maxima or minima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5"/>
          <p:cNvGraphicFramePr/>
          <p:nvPr/>
        </p:nvGraphicFramePr>
        <p:xfrm>
          <a:off x="3505320" y="1295280"/>
          <a:ext cx="27432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295280"/>
                    <a:ext cx="274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2120" y="2787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rel max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; rel min 4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–32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2120" y="4768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rel max 32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; rel min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62120" y="3778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rel max 0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; rel min –32 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62120" y="5759280"/>
            <a:ext cx="80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There are no relative extre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523880" y="13824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graphing calculator to find any relative maxima or minima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3505320" y="1295280"/>
          <a:ext cx="27432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295280"/>
                    <a:ext cx="2743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Oval 10"/>
          <p:cNvSpPr/>
          <p:nvPr/>
        </p:nvSpPr>
        <p:spPr>
          <a:xfrm>
            <a:off x="609480" y="3809880"/>
            <a:ext cx="67968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233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85800" y="4495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580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85800" y="5638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66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–1)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3579840" y="291960"/>
          <a:ext cx="5234040" cy="20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9840" y="291960"/>
                    <a:ext cx="5234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33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5800" y="4495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8580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5800" y="5638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066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–1)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9"/>
          <p:cNvGraphicFramePr/>
          <p:nvPr/>
        </p:nvGraphicFramePr>
        <p:xfrm>
          <a:off x="3579840" y="291960"/>
          <a:ext cx="5234040" cy="20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9840" y="291960"/>
                    <a:ext cx="5234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Oval 10"/>
          <p:cNvSpPr/>
          <p:nvPr/>
        </p:nvSpPr>
        <p:spPr>
          <a:xfrm>
            <a:off x="609480" y="4572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2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2330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MCHH01529_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85800" y="4495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5800" y="3473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85800" y="5638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66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1"/>
          <p:cNvGraphicFramePr/>
          <p:nvPr/>
        </p:nvGraphicFramePr>
        <p:xfrm>
          <a:off x="1219320" y="3505320"/>
          <a:ext cx="54612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505320"/>
                    <a:ext cx="546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9"/>
          <p:cNvGraphicFramePr/>
          <p:nvPr/>
        </p:nvGraphicFramePr>
        <p:xfrm>
          <a:off x="3579840" y="291960"/>
          <a:ext cx="5234040" cy="200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9840" y="291960"/>
                    <a:ext cx="523404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BeasoA</cp:lastModifiedBy>
  <dcterms:modified xsi:type="dcterms:W3CDTF">2015-02-06T01:48:57Z</dcterms:modified>
  <cp:revision>235</cp:revision>
  <dc:subject/>
  <dc:title>No Slide Title</dc:title>
</cp:coreProperties>
</file>